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DB8-9C9D-42ED-87F8-F227334F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BBA-9EAE-4C3E-AE49-A3229E1F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B99-726D-4761-B7B1-AD75162A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1DE-EC6F-4F80-9A59-C4A76126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379A-7DDC-402C-8BA8-37212446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5F5C-BD85-4205-B235-36A94F69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FE17-130D-4BA5-8CF1-60715F82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97CB-716B-477C-9AE5-C8CA927D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8650-F695-478D-9286-FF23B225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F1A6-0A65-4433-828B-484E661C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DDAD-0C78-4FB8-B9A6-9962E5B8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D62-0A36-41BE-85DD-C927F229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CDA1-536D-4AF7-A856-BCAA0C12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9692-ADD2-46E4-81B8-3E40BAB8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1FEE-9BE5-48FD-9740-DB33D34F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BD8B-C04A-42D9-B253-224D3562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B839-FBC9-4750-8D05-A199330D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677-2B51-4B15-AE0D-3607E1E6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FF5-5561-451B-B3B6-46E13983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A4B-F6C2-4B78-A65D-28FA50A5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F51-EF99-455D-A726-8E42CD55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EDF-9911-4B52-A964-CE2A7AE2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9BD-CADB-46B5-8B24-65AA0DF8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555-5C4A-473F-A798-999BDBFC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D1AF-2DC0-41ED-9AD2-2F88D90F31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8750-48A9-4635-9FE4-0606319D70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b9efee"/>
                </a:solidFill>
                <a:latin typeface="Garamond"/>
              </a:rPr>
              <a:t>RAAB form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mplications of errors in VA measurement on prevalenc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129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n average per cluster of 50 people fi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1 blind per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3 people with severe visual impairment (SVI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hat is the prevalence of blindness and SV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Blind: 2%; SVI: 6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oor measurement of VI: for same cluster labe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2 blind peop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2 people with visual impair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hat is the prevalence of blindness and SV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Blind: 4%; SVI: 4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39640" y="44280"/>
            <a:ext cx="7993080" cy="4819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140360" y="44280"/>
            <a:ext cx="4392360" cy="14418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5013360"/>
            <a:ext cx="8640720" cy="17870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ns Examination 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torch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rect 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ophthalmoscop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disregarding visual statu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9640" y="44280"/>
            <a:ext cx="7993080" cy="4819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067280" y="1484280"/>
            <a:ext cx="4465440" cy="33847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5084640"/>
            <a:ext cx="82440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presenting VA&lt;6/18 listed in both ey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rk principal disorder: no examination if VA=6/18 or better in either eye: then code =1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79280" y="1084320"/>
            <a:ext cx="8785440" cy="5297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484360" y="2637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19640" y="2637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4437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08720" y="3860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08720" y="1413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4869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17080" y="1628640"/>
            <a:ext cx="1425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3429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17080" y="3429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7400" y="13644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xampl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79280" y="1084320"/>
            <a:ext cx="8785440" cy="5297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48436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2997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4360" y="47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08720" y="3429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1989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19640" y="4437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17080" y="1413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88000" y="407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17080" y="3429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7400" y="13644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xampl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79280" y="1084320"/>
            <a:ext cx="8785440" cy="5297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484360" y="3429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21080" y="2205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5229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08720" y="6093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08720" y="1628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4437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17080" y="1989000"/>
            <a:ext cx="1425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3860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6093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7400" y="13644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xampl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9280" y="1084320"/>
            <a:ext cx="8785440" cy="5297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48436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2108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861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0872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08720" y="1413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2108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17080" y="1989000"/>
            <a:ext cx="1425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17080" y="530064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7400" y="13644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xampl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79280" y="1084320"/>
            <a:ext cx="8785440" cy="5297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84360" y="2205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21080" y="3645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84360" y="4437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8720" y="1989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21080" y="5877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17080" y="1413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88000" y="6093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17080" y="6093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7400" y="13644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xampl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79280" y="1084320"/>
            <a:ext cx="8785440" cy="5297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48436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2108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4869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08720" y="407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08720" y="1628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2108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17080" y="2205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88000" y="3860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860640"/>
            <a:ext cx="1425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37400" y="13644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xample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phthalmic examin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Refractive error: VA &lt;6/18 improving to 6/18 with pinh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Cataract: VA &lt;6/18 not improving with pinhole and obvious lens opac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Aphakia uncorrected: VA &lt;6/18 with aphakia, improving to at least 6/60 with pinh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What to do if one eye has two causes of V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What to do if two eyes have different causes of V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Highest one on the list is major ca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General not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phthalmologist with assistant to measure all VA (not assistant on their ow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Quality control of VA measur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Quality control of samp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sual ro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Ophthalmologist to fill in form and obser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ssistant holds the E char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Explanation by either ophthalmologist or assista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Ophthalmologist checks all forms at end of da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or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Fill in pencil with eras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Fill in one form per person, even if not availab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For each relevant section, fill in all the questions (no blank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58920" y="66600"/>
            <a:ext cx="8316720" cy="4546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211640" y="0"/>
            <a:ext cx="4464000" cy="46530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4941720"/>
            <a:ext cx="864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tails about cataract operation for anyone with aphakia or pseudophakia in either ey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3357720"/>
            <a:ext cx="4319640" cy="122364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6035760"/>
            <a:ext cx="864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fer to section C and D to determine ca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58920" y="66600"/>
            <a:ext cx="8316720" cy="4546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4000" y="1844640"/>
            <a:ext cx="3960720" cy="27367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530064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arriers to cataract surgery in one or both ey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sk “Why cataract operation was not yet done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How does the form relate to the summary data obtained in RAAB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8000" y="1825560"/>
          <a:ext cx="8964720" cy="4373640"/>
        </p:xfrm>
        <a:graphic>
          <a:graphicData uri="http://schemas.openxmlformats.org/drawingml/2006/table">
            <a:tbl>
              <a:tblPr/>
              <a:tblGrid>
                <a:gridCol w="1872000"/>
                <a:gridCol w="1512720"/>
                <a:gridCol w="1727280"/>
                <a:gridCol w="2016000"/>
                <a:gridCol w="183672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ny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Philippin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anglades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Philipp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lind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3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atar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4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5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void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8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8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ataract cover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5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Poor outcom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arri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19280" y="56664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General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569080" cy="2077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4000" y="407664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quare box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ne number in each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in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rite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mall circl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rk clearly with cross or t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AAB in one area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rite name of are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se area code 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4920" y="44280"/>
            <a:ext cx="4824360" cy="6697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340000" y="4581360"/>
            <a:ext cx="3240000" cy="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3933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History if not exam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076640"/>
            <a:ext cx="2340000" cy="1081080"/>
          </a:xfrm>
          <a:prstGeom prst="rect">
            <a:avLst/>
          </a:prstGeom>
          <a:noFill/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620640"/>
            <a:ext cx="3889440" cy="4320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1052640"/>
            <a:ext cx="576360" cy="331308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4581360"/>
            <a:ext cx="3240000" cy="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1052640"/>
            <a:ext cx="576360" cy="331308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076640"/>
            <a:ext cx="2340000" cy="10810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4581360"/>
            <a:ext cx="3240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1052640"/>
            <a:ext cx="576360" cy="3313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How would you persuade someone who refused to be examined?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3611520" cy="4895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8000" y="981000"/>
            <a:ext cx="3743280" cy="5040360"/>
          </a:xfrm>
          <a:prstGeom prst="rect">
            <a:avLst/>
          </a:prstGeom>
          <a:noFill/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879480"/>
            <a:ext cx="5219640" cy="63414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poi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ark use of specta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asure presenting vi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asure VA in both eyes: first right eye then left ey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4 out of 5 readings corr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tart at 6/6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Use pinhole if PVA&lt;6/18, starting at last vision 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Accurate measurement of VA is </a:t>
            </a: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rucial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isual acuit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Check conditions for VA measur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Person in sha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E in light, but not in gl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Properly explained (particularly pinhol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Don’t go too fa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Person not squinting or peep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Do not rotate but tumble E cha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If they get it wrong – move on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Pinh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Always pinhole test if PVA&lt; 6/1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Go to large optotype fir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Usually at least as good as presenting – often bet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9efee"/>
                </a:solidFill>
                <a:latin typeface="Garamond"/>
              </a:rPr>
              <a:t>Problem spott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What to do if 3 out of readings are 5 correc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Can pinhole vision be worse than presenting VA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What if not wearing glasses, but have glasses in the hou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02:26:06Z</dcterms:created>
  <dc:creator> </dc:creator>
  <dc:description/>
  <dc:language>en-US</dc:language>
  <cp:lastModifiedBy>Hans Limburg</cp:lastModifiedBy>
  <dcterms:modified xsi:type="dcterms:W3CDTF">2013-03-28T14:38:28Z</dcterms:modified>
  <cp:revision>51</cp:revision>
  <dc:subject/>
  <dc:title>Slide 1</dc:title>
</cp:coreProperties>
</file>